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3C6-A01A-4E6A-814F-4CDA78EC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169-EB6E-442A-B383-AFCBA57C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232-9E81-4909-A291-000C4526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B01-67A5-40B3-9A5B-B99B269E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FF99-BCB1-4B48-B06A-6A620BBE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F51A-E183-4203-BEB5-9B50A4E8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D4ED-6A99-41F3-BE9F-5B6D1744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B955-9213-41FA-976D-3293BD80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1863-78E7-4752-8D1A-9B963D32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ECBE-BCEC-4FEF-B4D7-97087C14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C5A7-57DC-41CC-A5A6-7BE4F851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D17-23AC-4730-9C74-7528F8E6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AA14-2374-4C28-8E93-A8ACB1A7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6A70-5B7A-4CD5-ADE9-D38CF72D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B85F-723A-4F0D-8859-E2F9FF1A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0CFB-FDFF-47F4-8897-5C613056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B930-CEEC-4BC0-A343-CA47B895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E1AD2-6DE0-4130-BBD2-D611B46B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575AD-F21C-4745-B8B4-F3D1C778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140F3-FCB3-4AC4-8BBE-8BD32CFA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0E3A4-72AF-4865-A281-0B29C910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15419-2915-4DC2-80AB-23CF4E0C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CDD-5FA6-4E27-AA43-3533DF6B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A3FF6-CA5F-4EC5-98C1-2180831C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4660E-AA6C-442B-9975-BD93F9DB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556A2-A5D9-4E78-87C3-22F1D780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A6A8B-1D81-4219-B5F1-784F58A0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F6CE5-A8FB-4EBF-BFEE-EA1C49E5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6A2F-B3BE-41DC-955E-F0D5C8C4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092A4-CE4C-436F-A10E-248EA863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65A58-D1B7-4177-AD9F-F46910C5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A94EC-466F-4AAC-8F61-F057F6E3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140C3-314D-4214-92FE-F54C1A9B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E9D-EDD0-4FDB-B7CA-1D6546E0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42F45-21B6-473B-919B-E979E1C2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53334-8F9F-4D06-8312-1B93668E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EB3FD-A8AB-49BD-B5A0-2A519EFD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A7BDB-742F-4657-B695-9711A37E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12686-A3DB-4F88-93C1-ACDAE30B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CA227-BD4F-4947-AEE9-BBD36243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FBD62-A2C9-4B72-88BB-60EF3801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2CFD7-5061-4244-8955-A4A36AA0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6B6B2-CD9A-4FEE-9F58-886C8D74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22E-14CD-4750-960E-3FAA3059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9E4-9C1B-4A37-84DD-25CF9610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457-D2B5-4445-8634-D6928CB8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B7C-1776-44D7-B775-D0E4C5AF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813-1C18-4A7E-8879-DFE0077D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1E57-F60D-42D5-A991-DB49B75B9F8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25CC-6586-4817-BA36-4AB26E1D8300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574E-B1D5-46BD-9249-3620EC4BABA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A9A4-CC77-42EC-AF9C-94518ABED1C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19240" y="2816280"/>
            <a:ext cx="8626320" cy="2120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Zambia_crest"/>
          <p:cNvPicPr/>
          <p:nvPr/>
        </p:nvPicPr>
        <p:blipFill>
          <a:blip r:embed="rId2"/>
          <a:stretch/>
        </p:blipFill>
        <p:spPr>
          <a:xfrm>
            <a:off x="3886200" y="533520"/>
            <a:ext cx="1316160" cy="15271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1143000" y="5638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Michael Ngulube, DACO, Chip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Stalin Sichinga, ARO, Z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Challenges cont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pre released varieties of the cowpeas are high yielding but not preferred by farm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f dibble stick required more labour. Farmers preferred using a ripper for 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ion between partn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on between implementers and other stakehol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 not properly followed (short notice of important meeting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farmers are not able to read and write and therefore miss out on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4617b"/>
                </a:solidFill>
                <a:latin typeface="Arial"/>
                <a:ea typeface="Arial"/>
              </a:rPr>
              <a:t>Possible solution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240" y="12952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per planning in early October for all the field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sign of a calendar of events and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 on best ways on flow of funds (CIMMYT and IITA manage one projec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llow up needs to improve (both organizations hired research assistant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5100480" y="2048040"/>
            <a:ext cx="313380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itle 4"/>
          <p:cNvSpPr/>
          <p:nvPr/>
        </p:nvSpPr>
        <p:spPr>
          <a:xfrm>
            <a:off x="1676520" y="2819520"/>
            <a:ext cx="647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Lucida Sans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mbia has an area of 750,000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about 13 million peop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90,000 k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land is arab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ly 14% is cropped in any ye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out 55 - 60% of the land area is covered by natural for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6% of Zambia’s land surface is covered by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712800" y="5784840"/>
            <a:ext cx="7827840" cy="1079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regions"/>
          <p:cNvPicPr/>
          <p:nvPr/>
        </p:nvPicPr>
        <p:blipFill>
          <a:blip r:embed="rId2"/>
          <a:srcRect l="3146" t="4460" r="2649" b="5398"/>
          <a:stretch/>
        </p:blipFill>
        <p:spPr>
          <a:xfrm>
            <a:off x="914400" y="838080"/>
            <a:ext cx="73152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TRODUCTION cont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cial wellbeing and economic development in Zambia is strongly linked with productivity growth in agriculture and sustainable management of farming system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ize is the main staple food crop grown widely in the country and critical for ensuring food security for the po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Constraints in Zambian Farming Systems</a:t>
            </a:r>
            <a:br>
              <a:rPr sz="43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23920" y="1219320"/>
            <a:ext cx="3962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1752480"/>
            <a:ext cx="4268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gative effects of climate 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il degrad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availability of improved varie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ysfunctional input-output mark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ts and dis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draft power and farm imple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0" y="365760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rcRect l="0" t="12402" r="0" b="8858"/>
          <a:stretch/>
        </p:blipFill>
        <p:spPr>
          <a:xfrm>
            <a:off x="4724280" y="1219320"/>
            <a:ext cx="4038840" cy="229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Picture 4" descr="August 23, 2003 (23)"/>
          <p:cNvPicPr/>
          <p:nvPr/>
        </p:nvPicPr>
        <p:blipFill>
          <a:blip r:embed="rId2"/>
          <a:stretch/>
        </p:blipFill>
        <p:spPr>
          <a:xfrm>
            <a:off x="4572000" y="3657600"/>
            <a:ext cx="4191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52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o address some constraints in Zambian farming systems, Feed the Future through IITA, is implementing Sustainable Intensification of Maize-Legume Systems for the Eastern Province of Zambia (SIMLEZA) which focu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  Maize-legume systems agronomy and breed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utrition focus: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ya processing and utiliza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 of national agricultural research system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"/>
              </a:rPr>
              <a:t>To address some constraints in Zambian farming systems, Feed the Future through IITA, is implementing</a:t>
            </a:r>
            <a:r>
              <a:rPr b="0" lang="en-US" sz="2700" spc="-1" strike="noStrike">
                <a:solidFill>
                  <a:srgbClr val="002060"/>
                </a:solidFill>
                <a:latin typeface="Arial"/>
                <a:ea typeface="Arial Unicode MS"/>
              </a:rPr>
              <a:t> </a:t>
            </a: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 Unicode MS"/>
              </a:rPr>
              <a:t>Sustainable Intensification of Maize-Legume Systems for the Eastern Province of Zambia</a:t>
            </a: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"/>
              </a:rPr>
              <a:t> (SIMLEZA) which focuses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8600" y="2895480"/>
            <a:ext cx="4648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 Maize-legume systems agronomy and breed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utrition focus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oya processing and utilizatio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 of national agricultural research system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C:\Users\Daniel\Desktop\pics 19 feb\IMG_1878.JPG"/>
          <p:cNvPicPr/>
          <p:nvPr/>
        </p:nvPicPr>
        <p:blipFill>
          <a:blip r:embed="rId1"/>
          <a:stretch/>
        </p:blipFill>
        <p:spPr>
          <a:xfrm>
            <a:off x="4648320" y="2790720"/>
            <a:ext cx="403848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SIMLEZA Project Si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-farm activ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ipata District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anje and Chiparamba cam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tete District: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fumbwe and Kawalala cam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undazi District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ya and Vuu cam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-station activ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sekera, GART, Kabwe, Misamfu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Eastern_Zambia_districts (2)"/>
          <p:cNvPicPr/>
          <p:nvPr/>
        </p:nvPicPr>
        <p:blipFill>
          <a:blip r:embed="rId1"/>
          <a:srcRect l="711" t="0" r="711" b="0"/>
          <a:stretch/>
        </p:blipFill>
        <p:spPr>
          <a:xfrm>
            <a:off x="4572000" y="2133720"/>
            <a:ext cx="403848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Challen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gumes selected are at the bottom of the farmers’ priorit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unity is uncertain of the market for the seed to be multiplie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rmers are not aware of the market (outlet) for the produ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rmers largely use the cowpeas leaves as vegetables and not the grain. There is therefore for a market for the gr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ipment for processing is rare and the current one for groundnut processing demands a lot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9:42:22Z</dcterms:created>
  <dc:creator>HP</dc:creator>
  <dc:description/>
  <dc:language>en-US</dc:language>
  <cp:lastModifiedBy>HP</cp:lastModifiedBy>
  <dcterms:modified xsi:type="dcterms:W3CDTF">2012-10-01T19:42:37Z</dcterms:modified>
  <cp:revision>33</cp:revision>
  <dc:subject/>
  <dc:title>ZAMBIA</dc:title>
</cp:coreProperties>
</file>